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DCB-D6EF-45A1-9AE8-27D3DE69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1B1-62DB-42A1-9FAD-62AA069C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C72-F601-4969-A9C7-7320FC15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193-37B8-40E8-8B1C-910E0B85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07A-4FFB-4080-8A26-49E44F3C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FAE1-909E-42B7-83A2-3588FF22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B02-81F8-4783-BD8A-ABD998FB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AD6-120C-480A-B501-CBE3604C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FB8-BA23-447E-B06F-7BAE1A46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C5E-2831-49E7-9858-D1274DA2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62E-B914-47FC-9934-919FEF1F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FD7-B894-4917-8360-4232476A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0509-6FB0-4250-986C-917533A35A63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New photon detector R&amp;D for Megaton water cherencov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 2007 May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547380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D -two directi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476280"/>
          <a:ext cx="8856720" cy="619272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374328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n detector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out system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" name=""/>
          <p:cNvGrpSpPr/>
          <p:nvPr/>
        </p:nvGrpSpPr>
        <p:grpSpPr>
          <a:xfrm>
            <a:off x="1802520" y="1253520"/>
            <a:ext cx="1642320" cy="1888200"/>
            <a:chOff x="1802520" y="1253520"/>
            <a:chExt cx="1642320" cy="1888200"/>
          </a:xfrm>
        </p:grpSpPr>
        <p:grpSp>
          <p:nvGrpSpPr>
            <p:cNvPr id="46" name=""/>
            <p:cNvGrpSpPr/>
            <p:nvPr/>
          </p:nvGrpSpPr>
          <p:grpSpPr>
            <a:xfrm>
              <a:off x="1802520" y="1253520"/>
              <a:ext cx="1642320" cy="1888200"/>
              <a:chOff x="1802520" y="1253520"/>
              <a:chExt cx="1642320" cy="188820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1802520" y="1253520"/>
                <a:ext cx="1617120" cy="1611360"/>
                <a:chOff x="1802520" y="1253520"/>
                <a:chExt cx="1617120" cy="1611360"/>
              </a:xfrm>
            </p:grpSpPr>
            <p:grpSp>
              <p:nvGrpSpPr>
                <p:cNvPr id="48" name=""/>
                <p:cNvGrpSpPr/>
                <p:nvPr/>
              </p:nvGrpSpPr>
              <p:grpSpPr>
                <a:xfrm>
                  <a:off x="1802520" y="1253520"/>
                  <a:ext cx="1617120" cy="1609920"/>
                  <a:chOff x="1802520" y="1253520"/>
                  <a:chExt cx="1617120" cy="160992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>
                    <a:off x="2336760" y="2067120"/>
                    <a:ext cx="642600" cy="796320"/>
                  </a:xfrm>
                  <a:custGeom>
                    <a:avLst/>
                    <a:gdLst>
                      <a:gd name="textAreaLeft" fmla="*/ 38880 w 642600"/>
                      <a:gd name="textAreaRight" fmla="*/ 603720 w 642600"/>
                      <a:gd name="textAreaTop" fmla="*/ 38880 h 796320"/>
                      <a:gd name="textAreaBottom" fmla="*/ 757440 h 796320"/>
                    </a:gdLst>
                    <a:ahLst/>
                    <a:rect l="textAreaLeft" t="textAreaTop" r="textAreaRight" b="textAreaBottom"/>
                    <a:pathLst>
                      <a:path w="21600" h="26764">
                        <a:moveTo>
                          <a:pt x="4493" y="0"/>
                        </a:moveTo>
                        <a:arcTo wR="4493" hR="4493" stAng="16200000" swAng="-5400000"/>
                        <a:lnTo>
                          <a:pt x="0" y="22271"/>
                        </a:lnTo>
                        <a:arcTo wR="4493" hR="4493" stAng="10800000" swAng="-5400000"/>
                        <a:lnTo>
                          <a:pt x="17107" y="26764"/>
                        </a:lnTo>
                        <a:arcTo wR="4493" hR="4493" stAng="5400000" swAng="-5400000"/>
                        <a:lnTo>
                          <a:pt x="21600" y="4493"/>
                        </a:lnTo>
                        <a:arcTo wR="4493" hR="4493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1835280" y="1273680"/>
                    <a:ext cx="1584360" cy="108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355120" y="2246760"/>
                    <a:ext cx="608760" cy="16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1802520" y="1253520"/>
                    <a:ext cx="1597680" cy="1037160"/>
                    <a:chOff x="1802520" y="1253520"/>
                    <a:chExt cx="1597680" cy="1037160"/>
                  </a:xfrm>
                </p:grpSpPr>
                <p:sp>
                  <p:nvSpPr>
                    <p:cNvPr id="53" name=""/>
                    <p:cNvSpPr/>
                    <p:nvPr/>
                  </p:nvSpPr>
                  <p:spPr>
                    <a:xfrm rot="21468000">
                      <a:off x="1820520" y="1282680"/>
                      <a:ext cx="1561320" cy="9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673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67352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" name=""/>
                    <p:cNvSpPr/>
                    <p:nvPr/>
                  </p:nvSpPr>
                  <p:spPr>
                    <a:xfrm flipH="1" rot="66600">
                      <a:off x="1884240" y="1281600"/>
                      <a:ext cx="1486080" cy="9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089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08926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" name=""/>
                <p:cNvGrpSpPr/>
                <p:nvPr/>
              </p:nvGrpSpPr>
              <p:grpSpPr>
                <a:xfrm>
                  <a:off x="2467800" y="2117160"/>
                  <a:ext cx="385560" cy="747720"/>
                  <a:chOff x="2467800" y="2117160"/>
                  <a:chExt cx="385560" cy="74772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2467800" y="2117160"/>
                    <a:ext cx="385560" cy="74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478960" y="2856960"/>
                    <a:ext cx="362880" cy="252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58" name="" descr=""/>
              <p:cNvPicPr/>
              <p:nvPr/>
            </p:nvPicPr>
            <p:blipFill>
              <a:blip r:embed="rId1"/>
              <a:srcRect l="48301" t="56375" r="40471" b="5752"/>
              <a:stretch/>
            </p:blipFill>
            <p:spPr>
              <a:xfrm>
                <a:off x="2497320" y="2141280"/>
                <a:ext cx="322920" cy="100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2532240" y="2068920"/>
                <a:ext cx="25272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87640" y="1405080"/>
                <a:ext cx="13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Comic Sans MS"/>
                  </a:rPr>
                  <a:t>Photocatho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346480" y="1772280"/>
              <a:ext cx="6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Sc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03720" y="2422800"/>
              <a:ext cx="61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P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2"/>
          <a:srcRect l="0" t="0" r="63264" b="6163"/>
          <a:stretch/>
        </p:blipFill>
        <p:spPr>
          <a:xfrm>
            <a:off x="3708360" y="1197000"/>
            <a:ext cx="1522440" cy="194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020000" y="1268280"/>
            <a:ext cx="1838160" cy="18702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268360" y="3357720"/>
            <a:ext cx="2305080" cy="2232000"/>
            <a:chOff x="2268360" y="3357720"/>
            <a:chExt cx="2305080" cy="2232000"/>
          </a:xfrm>
        </p:grpSpPr>
        <p:pic>
          <p:nvPicPr>
            <p:cNvPr id="66" name="" descr=""/>
            <p:cNvPicPr/>
            <p:nvPr/>
          </p:nvPicPr>
          <p:blipFill>
            <a:blip r:embed="rId4"/>
            <a:srcRect l="17508" t="12557" r="13711" b="5953"/>
            <a:stretch/>
          </p:blipFill>
          <p:spPr>
            <a:xfrm>
              <a:off x="2268360" y="3357720"/>
              <a:ext cx="2305080" cy="22320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rcRect l="16077" t="9433" r="10749" b="5617"/>
            <a:stretch/>
          </p:blipFill>
          <p:spPr>
            <a:xfrm>
              <a:off x="2268360" y="4412520"/>
              <a:ext cx="1168920" cy="11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508720" y="3270240"/>
            <a:ext cx="3384360" cy="1965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8000" y="5877000"/>
            <a:ext cx="316872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ultichannel</a:t>
            </a:r>
            <a:r>
              <a:rPr b="0" lang="ja-JP" sz="1800" spc="-1" strike="noStrike">
                <a:solidFill>
                  <a:srgbClr val="ffffff"/>
                </a:solidFill>
                <a:latin typeface="Comic Sans MS"/>
              </a:rPr>
              <a:t> FE ASIC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close to the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4869000"/>
            <a:ext cx="3589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00000" y="5157720"/>
            <a:ext cx="14292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435640" y="5373720"/>
            <a:ext cx="3384360" cy="125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23200" y="2421000"/>
            <a:ext cx="1322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ybrid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9800" y="2630520"/>
            <a:ext cx="66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8880" y="1844640"/>
            <a:ext cx="1625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9600" y="4724280"/>
            <a:ext cx="352908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Low noise Preamp ASIC on H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+ Q-T/waveform recoder 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t is difficult to finalize Mton detector system (incl. readout system) at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romise over performance an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349360"/>
            <a:ext cx="20894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360" y="4365720"/>
            <a:ext cx="580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velopment of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change information of 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scussion of Mton detect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2360" y="4653000"/>
            <a:ext cx="1150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02520" y="4365720"/>
            <a:ext cx="174420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5661000"/>
            <a:ext cx="1150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06520" y="5300640"/>
            <a:ext cx="2161800" cy="8254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920" y="44280"/>
            <a:ext cx="5473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D -two directi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7280" y="476280"/>
          <a:ext cx="8856720" cy="619272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374328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n detector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out system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" name=""/>
          <p:cNvGrpSpPr/>
          <p:nvPr/>
        </p:nvGrpSpPr>
        <p:grpSpPr>
          <a:xfrm>
            <a:off x="1802520" y="1253520"/>
            <a:ext cx="1642320" cy="1888200"/>
            <a:chOff x="1802520" y="1253520"/>
            <a:chExt cx="1642320" cy="1888200"/>
          </a:xfrm>
        </p:grpSpPr>
        <p:grpSp>
          <p:nvGrpSpPr>
            <p:cNvPr id="88" name=""/>
            <p:cNvGrpSpPr/>
            <p:nvPr/>
          </p:nvGrpSpPr>
          <p:grpSpPr>
            <a:xfrm>
              <a:off x="1802520" y="1253520"/>
              <a:ext cx="1642320" cy="1888200"/>
              <a:chOff x="1802520" y="1253520"/>
              <a:chExt cx="1642320" cy="188820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1802520" y="1253520"/>
                <a:ext cx="1617120" cy="1611360"/>
                <a:chOff x="1802520" y="1253520"/>
                <a:chExt cx="1617120" cy="161136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1802520" y="1253520"/>
                  <a:ext cx="1617120" cy="1609920"/>
                  <a:chOff x="1802520" y="1253520"/>
                  <a:chExt cx="1617120" cy="160992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2336760" y="2067120"/>
                    <a:ext cx="642600" cy="796320"/>
                  </a:xfrm>
                  <a:custGeom>
                    <a:avLst/>
                    <a:gdLst>
                      <a:gd name="textAreaLeft" fmla="*/ 38880 w 642600"/>
                      <a:gd name="textAreaRight" fmla="*/ 603720 w 642600"/>
                      <a:gd name="textAreaTop" fmla="*/ 38880 h 796320"/>
                      <a:gd name="textAreaBottom" fmla="*/ 757440 h 796320"/>
                    </a:gdLst>
                    <a:ahLst/>
                    <a:rect l="textAreaLeft" t="textAreaTop" r="textAreaRight" b="textAreaBottom"/>
                    <a:pathLst>
                      <a:path w="21600" h="26764">
                        <a:moveTo>
                          <a:pt x="4493" y="0"/>
                        </a:moveTo>
                        <a:arcTo wR="4493" hR="4493" stAng="16200000" swAng="-5400000"/>
                        <a:lnTo>
                          <a:pt x="0" y="22271"/>
                        </a:lnTo>
                        <a:arcTo wR="4493" hR="4493" stAng="10800000" swAng="-5400000"/>
                        <a:lnTo>
                          <a:pt x="17107" y="26764"/>
                        </a:lnTo>
                        <a:arcTo wR="4493" hR="4493" stAng="5400000" swAng="-5400000"/>
                        <a:lnTo>
                          <a:pt x="21600" y="4493"/>
                        </a:lnTo>
                        <a:arcTo wR="4493" hR="4493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835280" y="1273680"/>
                    <a:ext cx="1584360" cy="108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2355120" y="2246760"/>
                    <a:ext cx="608760" cy="16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1802520" y="1253520"/>
                    <a:ext cx="1597680" cy="1037160"/>
                    <a:chOff x="1802520" y="1253520"/>
                    <a:chExt cx="1597680" cy="103716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 rot="21468000">
                      <a:off x="1820520" y="1282680"/>
                      <a:ext cx="1561320" cy="9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673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67352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H="1" rot="66600">
                      <a:off x="1884240" y="1281600"/>
                      <a:ext cx="1486080" cy="9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089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08926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2467800" y="2117160"/>
                  <a:ext cx="385560" cy="747720"/>
                  <a:chOff x="2467800" y="2117160"/>
                  <a:chExt cx="385560" cy="7477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2467800" y="2117160"/>
                    <a:ext cx="385560" cy="74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2478960" y="2856960"/>
                    <a:ext cx="362880" cy="252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100" name="" descr=""/>
              <p:cNvPicPr/>
              <p:nvPr/>
            </p:nvPicPr>
            <p:blipFill>
              <a:blip r:embed="rId1"/>
              <a:srcRect l="48301" t="56375" r="40471" b="5752"/>
              <a:stretch/>
            </p:blipFill>
            <p:spPr>
              <a:xfrm>
                <a:off x="2497320" y="2141280"/>
                <a:ext cx="322920" cy="100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2532240" y="2068920"/>
                <a:ext cx="25272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87640" y="1405080"/>
                <a:ext cx="13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Comic Sans MS"/>
                  </a:rPr>
                  <a:t>Photocatho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346480" y="1772280"/>
              <a:ext cx="6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Sc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03720" y="2422800"/>
              <a:ext cx="61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P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2"/>
          <a:srcRect l="0" t="0" r="63264" b="6163"/>
          <a:stretch/>
        </p:blipFill>
        <p:spPr>
          <a:xfrm>
            <a:off x="3691080" y="1197000"/>
            <a:ext cx="1522440" cy="194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020000" y="1268280"/>
            <a:ext cx="1838160" cy="18702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268360" y="3357720"/>
            <a:ext cx="2305080" cy="2232000"/>
            <a:chOff x="2268360" y="3357720"/>
            <a:chExt cx="2305080" cy="223200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rcRect l="17508" t="12557" r="13711" b="5953"/>
            <a:stretch/>
          </p:blipFill>
          <p:spPr>
            <a:xfrm>
              <a:off x="2268360" y="3357720"/>
              <a:ext cx="2305080" cy="22320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5"/>
            <a:srcRect l="16077" t="9433" r="10749" b="5617"/>
            <a:stretch/>
          </p:blipFill>
          <p:spPr>
            <a:xfrm>
              <a:off x="2268360" y="4412520"/>
              <a:ext cx="1168920" cy="11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508720" y="3270240"/>
            <a:ext cx="3384360" cy="196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08000" y="5877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Multichannel</a:t>
            </a:r>
            <a:r>
              <a:rPr b="0" lang="ja-JP" sz="1800" spc="-1" strike="noStrike">
                <a:solidFill>
                  <a:srgbClr val="99cc00"/>
                </a:solidFill>
                <a:latin typeface="Comic Sans MS"/>
              </a:rPr>
              <a:t> FE ASIC</a:t>
            </a: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, close to the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4869000"/>
            <a:ext cx="3589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00000" y="5157720"/>
            <a:ext cx="14292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651640" y="5373720"/>
            <a:ext cx="2916000" cy="1077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35640" y="1125360"/>
            <a:ext cx="3708360" cy="2087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213000"/>
            <a:ext cx="3454560" cy="338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8900000">
            <a:off x="2916360" y="3212640"/>
            <a:ext cx="4564080" cy="936720"/>
          </a:xfrm>
          <a:prstGeom prst="leftRightArrow">
            <a:avLst>
              <a:gd name="adj1" fmla="val 50000"/>
              <a:gd name="adj2" fmla="val 9699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46320" y="3141720"/>
            <a:ext cx="28720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4160" y="1484280"/>
            <a:ext cx="18417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det &gt; 10^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28160" y="1484280"/>
            <a:ext cx="18417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det ~ 10^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299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856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of FE-ASIC(MAROC2) with HPD in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on Ap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C design based on the result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Y2008 f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e by us (collaboration between F-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7402" t="24231" r="26768" b="36105"/>
          <a:stretch/>
        </p:blipFill>
        <p:spPr>
          <a:xfrm>
            <a:off x="4952880" y="1268280"/>
            <a:ext cx="4191120" cy="2714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43280" y="4941720"/>
            <a:ext cx="2016000" cy="93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8840" y="60213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ASIC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nly HPD but als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lti-pixel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0716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ave manpower for AS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oss measurements decreas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Japanese-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cess new technologies (AMS 0.35um process) with low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French-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now-how of construction of large water cherencov detector based on SK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0:42:01Z</dcterms:created>
  <dc:creator>KEK</dc:creator>
  <dc:description/>
  <dc:language>en-US</dc:language>
  <cp:lastModifiedBy>J.E Campagne</cp:lastModifiedBy>
  <dcterms:modified xsi:type="dcterms:W3CDTF">2007-05-09T07:29:57Z</dcterms:modified>
  <cp:revision>11</cp:revision>
  <dc:subject/>
  <dc:title>New photon detector R&amp;D</dc:title>
</cp:coreProperties>
</file>